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990360" y="304920"/>
            <a:ext cx="8178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75588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52140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99036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75588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52140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990360" y="304920"/>
            <a:ext cx="8178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5588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2140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9036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5588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2140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75588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52140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99036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75588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52140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990360" y="304920"/>
            <a:ext cx="8178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75588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52140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99036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75588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52140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990360" y="304920"/>
            <a:ext cx="8178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5588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2140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99036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75588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52140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990360" y="304920"/>
            <a:ext cx="8178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75588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52140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99036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75588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52140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990360" y="304920"/>
            <a:ext cx="8178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75588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52140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99036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75588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52140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990360" y="304920"/>
            <a:ext cx="8178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304920"/>
            <a:ext cx="8178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75588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52140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99036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75588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52140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990360" y="304920"/>
            <a:ext cx="8178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75588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2140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99036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75588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2140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990360" y="304920"/>
            <a:ext cx="8178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75588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52140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99036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75588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52140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90360" y="304920"/>
            <a:ext cx="8178840" cy="71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90360" y="4536720"/>
            <a:ext cx="81788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81120" y="19429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9036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181120" y="4536720"/>
            <a:ext cx="399096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75588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521400" y="19429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9036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75588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521400" y="4536720"/>
            <a:ext cx="263340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790640"/>
            <a:ext cx="8178840" cy="1866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Click to edit the title text format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4051080"/>
            <a:ext cx="8178840" cy="1269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t">
            <a:normAutofit fontScale="3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243e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1f243e"/>
              </a:solidFill>
              <a:latin typeface="Gill Sans"/>
            </a:endParaRPr>
          </a:p>
          <a:p>
            <a:pPr lvl="1" algn="ctr">
              <a:buClr>
                <a:srgbClr val="1f243e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243e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1f243e"/>
              </a:solidFill>
              <a:latin typeface="Gill Sans"/>
            </a:endParaRPr>
          </a:p>
          <a:p>
            <a:pPr lvl="2" algn="ctr">
              <a:buClr>
                <a:srgbClr val="1f243e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243e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1f243e"/>
              </a:solidFill>
              <a:latin typeface="Gill Sans"/>
            </a:endParaRPr>
          </a:p>
          <a:p>
            <a:pPr lvl="3" algn="ctr">
              <a:buClr>
                <a:srgbClr val="1f243e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243e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1f243e"/>
              </a:solidFill>
              <a:latin typeface="Gill Sans"/>
            </a:endParaRPr>
          </a:p>
          <a:p>
            <a:pPr lvl="4" algn="ctr">
              <a:buClr>
                <a:srgbClr val="1f243e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243e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1f243e"/>
              </a:solidFill>
              <a:latin typeface="Gill Sans"/>
            </a:endParaRPr>
          </a:p>
          <a:p>
            <a:pPr lvl="5" algn="ctr">
              <a:buClr>
                <a:srgbClr val="44422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243e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1f243e"/>
              </a:solidFill>
              <a:latin typeface="Gill Sans"/>
            </a:endParaRPr>
          </a:p>
          <a:p>
            <a:pPr lvl="6" algn="ctr">
              <a:buClr>
                <a:srgbClr val="44422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243e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1f243e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263760" y="3746520"/>
            <a:ext cx="3619800" cy="9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b7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90360" y="567684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Click to edit the title text format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b7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82760" y="1270080"/>
            <a:ext cx="4597200" cy="2387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Click to edit the title text format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82760" y="4051440"/>
            <a:ext cx="4597200" cy="2387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t">
            <a:normAutofit fontScale="7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1" algn="ctr">
              <a:buClr>
                <a:srgbClr val="1a173d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2" algn="ctr">
              <a:buClr>
                <a:srgbClr val="1a173d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3" algn="ctr">
              <a:buClr>
                <a:srgbClr val="1a173d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4" algn="ctr">
              <a:buClr>
                <a:srgbClr val="1a173d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5" algn="ctr">
              <a:buClr>
                <a:srgbClr val="44422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6" algn="ctr">
              <a:buClr>
                <a:srgbClr val="44422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965160" y="3759120"/>
            <a:ext cx="3619440" cy="9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Click to edit the title text format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99000"/>
          </a:bodyPr>
          <a:p>
            <a:pPr marL="453960" indent="-282600"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1" marL="847080" indent="-281160"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2" marL="1249200" indent="-281520"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3" marL="1651680" indent="-281520"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4" marL="2054160" indent="-281520"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5" marL="2054160" indent="-281520">
              <a:spcBef>
                <a:spcPts val="25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6" marL="2054160" indent="-281520">
              <a:spcBef>
                <a:spcPts val="25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4422c"/>
                </a:solidFill>
                <a:latin typeface="Hoefler Text"/>
              </a:rPr>
              <a:t>Click to edit the title text format</a:t>
            </a:r>
            <a:endParaRPr b="0" lang="en-US" sz="5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04360" indent="-282960">
              <a:spcBef>
                <a:spcPts val="25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22c"/>
                </a:solidFill>
                <a:latin typeface="Hoefler Text"/>
              </a:rPr>
              <a:t>Click to edit the outline text format</a:t>
            </a: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  <a:p>
            <a:pPr lvl="1" marL="897120" indent="-281160">
              <a:spcBef>
                <a:spcPts val="25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22c"/>
                </a:solidFill>
                <a:latin typeface="Hoefler Text"/>
              </a:rPr>
              <a:t>Second Outline Level</a:t>
            </a: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  <a:p>
            <a:pPr lvl="2" marL="1299600" indent="-281160">
              <a:spcBef>
                <a:spcPts val="25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22c"/>
                </a:solidFill>
                <a:latin typeface="Hoefler Text"/>
              </a:rPr>
              <a:t>Third Outline Level</a:t>
            </a: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  <a:p>
            <a:pPr lvl="3" marL="1702080" indent="-281520">
              <a:spcBef>
                <a:spcPts val="25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22c"/>
                </a:solidFill>
                <a:latin typeface="Hoefler Text"/>
              </a:rPr>
              <a:t>Fourth Outline Level</a:t>
            </a: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  <a:p>
            <a:pPr lvl="4" marL="2104200" indent="-281520">
              <a:spcBef>
                <a:spcPts val="25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22c"/>
                </a:solidFill>
                <a:latin typeface="Hoefler Text"/>
              </a:rPr>
              <a:t>Fifth Outline Level</a:t>
            </a: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  <a:p>
            <a:pPr lvl="5" marL="2104200" indent="-281520">
              <a:spcBef>
                <a:spcPts val="7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22c"/>
                </a:solidFill>
                <a:latin typeface="Hoefler Text"/>
              </a:rPr>
              <a:t>Sixth Outline Level</a:t>
            </a: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  <a:p>
            <a:pPr lvl="6" marL="2104200" indent="-281520">
              <a:spcBef>
                <a:spcPts val="7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22c"/>
                </a:solidFill>
                <a:latin typeface="Hoefler Text"/>
              </a:rPr>
              <a:t>Seventh Outline Level</a:t>
            </a:r>
            <a:endParaRPr b="0" lang="en-US" sz="28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Click to edit the title text format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5931000" y="1942920"/>
            <a:ext cx="323856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71000"/>
          </a:bodyPr>
          <a:p>
            <a:pPr marL="309960" indent="-186840">
              <a:spcBef>
                <a:spcPts val="32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1" marL="592920" indent="-186840">
              <a:spcBef>
                <a:spcPts val="32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2" marL="881280" indent="-186840">
              <a:spcBef>
                <a:spcPts val="32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3" marL="1169640" indent="-186840">
              <a:spcBef>
                <a:spcPts val="32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4" marL="1458360" indent="-186840">
              <a:spcBef>
                <a:spcPts val="32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5" marL="1458360" indent="-186840">
              <a:spcBef>
                <a:spcPts val="32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6" marL="1458360" indent="-186840">
              <a:spcBef>
                <a:spcPts val="32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Click to edit the title text format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b7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Click to edit the title text format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90720" y="1942920"/>
            <a:ext cx="38354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79000"/>
          </a:bodyPr>
          <a:p>
            <a:pPr marL="344880" indent="-208080">
              <a:spcBef>
                <a:spcPts val="32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1" marL="659520" indent="-208080">
              <a:spcBef>
                <a:spcPts val="32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2" marL="980280" indent="-208080">
              <a:spcBef>
                <a:spcPts val="32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3" marL="1301400" indent="-208080">
              <a:spcBef>
                <a:spcPts val="32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4" marL="1622520" indent="-208080">
              <a:spcBef>
                <a:spcPts val="32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5" marL="1622520" indent="-208080">
              <a:spcBef>
                <a:spcPts val="32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6" marL="1622520" indent="-208080">
              <a:spcBef>
                <a:spcPts val="32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990360" y="711000"/>
            <a:ext cx="8178840" cy="6197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95000"/>
          </a:bodyPr>
          <a:p>
            <a:pPr marL="435600" indent="-271080">
              <a:spcBef>
                <a:spcPts val="4501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1" marL="812880" indent="-269640">
              <a:spcBef>
                <a:spcPts val="4501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2" marL="1198800" indent="-270000">
              <a:spcBef>
                <a:spcPts val="4501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3" marL="1585080" indent="-270000">
              <a:spcBef>
                <a:spcPts val="4501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4" marL="1971000" indent="-270000">
              <a:spcBef>
                <a:spcPts val="4501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5" marL="1971000" indent="-270000">
              <a:spcBef>
                <a:spcPts val="45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6" marL="1971000" indent="-270000">
              <a:spcBef>
                <a:spcPts val="4501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Click to edit the title text format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90720" y="1942920"/>
            <a:ext cx="38354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79000"/>
          </a:bodyPr>
          <a:p>
            <a:pPr marL="344880" indent="-208080">
              <a:spcBef>
                <a:spcPts val="32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1" marL="659520" indent="-208080">
              <a:spcBef>
                <a:spcPts val="32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2" marL="980280" indent="-208080">
              <a:spcBef>
                <a:spcPts val="32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3" marL="1301400" indent="-208080">
              <a:spcBef>
                <a:spcPts val="32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4" marL="1622520" indent="-208080">
              <a:spcBef>
                <a:spcPts val="32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5" marL="1622520" indent="-208080">
              <a:spcBef>
                <a:spcPts val="32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  <a:p>
            <a:pPr lvl="6" marL="1622520" indent="-208080">
              <a:spcBef>
                <a:spcPts val="3200"/>
              </a:spcBef>
              <a:buClr>
                <a:srgbClr val="4442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73d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90360" y="2870280"/>
            <a:ext cx="8178840" cy="1866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Click to edit the title text format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90360" y="1790640"/>
            <a:ext cx="8178840" cy="1866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State of MediaWiki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90360" y="4051080"/>
            <a:ext cx="8178840" cy="1269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243e"/>
                </a:solidFill>
                <a:latin typeface="Gill Sans"/>
              </a:rPr>
              <a:t> </a:t>
            </a:r>
            <a:endParaRPr b="0" lang="en-US" sz="2800" spc="-1" strike="noStrike">
              <a:solidFill>
                <a:srgbClr val="1f243e"/>
              </a:solidFill>
              <a:latin typeface="Gill Sans"/>
            </a:endParaRPr>
          </a:p>
        </p:txBody>
      </p:sp>
      <p:sp>
        <p:nvSpPr>
          <p:cNvPr id="421" name=""/>
          <p:cNvSpPr/>
          <p:nvPr/>
        </p:nvSpPr>
        <p:spPr>
          <a:xfrm>
            <a:off x="374040" y="6374880"/>
            <a:ext cx="32529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Brion Vibber</a:t>
            </a:r>
            <a:endParaRPr b="0" lang="en-US" sz="2000" spc="-1" strike="noStrike">
              <a:solidFill>
                <a:srgbClr val="44422c"/>
              </a:solidFill>
              <a:latin typeface="Hoefler Tex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Wikimedia Foundation, Inc.</a:t>
            </a:r>
            <a:endParaRPr b="0" lang="en-US" sz="2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22" name=""/>
          <p:cNvSpPr/>
          <p:nvPr/>
        </p:nvSpPr>
        <p:spPr>
          <a:xfrm>
            <a:off x="6814800" y="6368760"/>
            <a:ext cx="29314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Wikimania Hacking Days</a:t>
            </a:r>
            <a:endParaRPr b="0" lang="en-US" sz="2000" spc="-1" strike="noStrike">
              <a:solidFill>
                <a:srgbClr val="44422c"/>
              </a:solidFill>
              <a:latin typeface="Hoefler Tex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ambridge, MA</a:t>
            </a:r>
            <a:endParaRPr b="0" lang="en-US" sz="2000" spc="-1" strike="noStrike">
              <a:solidFill>
                <a:srgbClr val="44422c"/>
              </a:solidFill>
              <a:latin typeface="Hoefler Text"/>
            </a:endParaRPr>
          </a:p>
        </p:txBody>
      </p:sp>
      <p:sp>
        <p:nvSpPr>
          <p:cNvPr id="423" name=""/>
          <p:cNvSpPr/>
          <p:nvPr/>
        </p:nvSpPr>
        <p:spPr>
          <a:xfrm>
            <a:off x="4174560" y="6527520"/>
            <a:ext cx="1779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August 2, 2006</a:t>
            </a:r>
            <a:endParaRPr b="0" lang="en-US" sz="2000" spc="-1" strike="noStrike">
              <a:solidFill>
                <a:srgbClr val="44422c"/>
              </a:solidFill>
              <a:latin typeface="Hoefler Tex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MediaWiki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Good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1" marL="906480" indent="-2840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does most of what we need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1" marL="906480" indent="-2840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scales OK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Bad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1" marL="906480" indent="-2840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Still very bad performance in some places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1" marL="906480" indent="-2840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Parser too irregular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469800" y="579600"/>
            <a:ext cx="9220320" cy="64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Performance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97000"/>
          </a:bodyPr>
          <a:p>
            <a:pPr marL="494280" indent="-27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Overall performance has been good this year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1" marL="879120" indent="-2754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Splitting English database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1" marL="879120" indent="-2754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Faster image upload server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1" marL="879120" indent="-2754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Better load balancing, caching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1" marL="879120" indent="-2754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Keeping number of machines at or ahead of the growth curve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1" marL="879120" indent="-2754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Lots of profiling and targeted software work by Tim and Domas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Reliability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Good enough for free, but not great: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1" marL="906480" indent="-2840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Two cluster restarts from power failures early this year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1" marL="906480" indent="-2840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Occasional database explosions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lvl="1" marL="906480" indent="-2840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Occasional panics from death of critical machines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Reliability possibilities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Move from installation scripts + ad hoc updates to ready-to-run system images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Consider running critical systems in a virtual environment for easy transplantation to a new physical box (Xen, VMWare)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Ensure a standby for large file servers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Clarify and improve data backup and recovery procedures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Full-text search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Search performance problems largely eliminated by improving load balancing and adding more machines.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Current Lucene search server searches OK, but doesn’t update quickly.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Could work to improve it, or replace it...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Alternative engines? (sphinx, etc)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509760" indent="-2858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Better implementations? (open source)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173d"/>
                </a:solidFill>
                <a:latin typeface="Gill Sans"/>
              </a:rPr>
              <a:t>Cool things to come?</a:t>
            </a:r>
            <a:endParaRPr b="0" lang="en-US" sz="5000" spc="-1" strike="noStrike">
              <a:solidFill>
                <a:srgbClr val="1a173d"/>
              </a:solidFill>
              <a:latin typeface="Gill San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88480" y="1942920"/>
            <a:ext cx="81788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76000"/>
          </a:bodyPr>
          <a:p>
            <a:pPr marL="387360" indent="-2170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Semantic MediaWiki!!!!111one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387360" indent="-2170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Xapian search? (xapian.org)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387360" indent="-2170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Wikidata?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387360" indent="-2170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LiquidThreads?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387360" indent="-2170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Better video, PDF, DjVu integration?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387360" indent="-2170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External auth: OpenID / YADIS / A-Select?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387360" indent="-2170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WYSIWYG?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387360" indent="-2170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Version review tagging?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  <a:p>
            <a:pPr marL="387360" indent="-2170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73d"/>
                </a:solidFill>
                <a:latin typeface="Gill Sans"/>
              </a:rPr>
              <a:t>Automatic vandalism heuristics?</a:t>
            </a:r>
            <a:endParaRPr b="0" lang="en-US" sz="2800" spc="-1" strike="noStrike">
              <a:solidFill>
                <a:srgbClr val="1a173d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